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4018-CC65-44C6-B5DC-9CD3EF4A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6769-2FC8-4C29-A022-B3D4ED4A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2472-0DE0-4425-9959-6A981D04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415C-44D2-427D-A678-879A4E70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92D7-D028-4A1C-A6F3-1E72318A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3E61-9E59-424F-A84A-A64CAB63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85A2-AE89-4D61-9B95-2894C5C3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4751-E04B-46A8-BAF6-CC6FE71C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8B2C-68B5-4AF3-A29B-67C61939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D5B3-94C7-4F40-B6AB-00C8A3C1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7500-1F01-4C05-96AE-3F398774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2FFF-AA0E-460E-A14C-098330D8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B3DF-CACC-4748-A7F9-5EC5EF11B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39280" cy="687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57400" y="548640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: Alissa Tam and Bridget Durg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Russian rivers run from south to north making their use difficult during the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orts are covered in snow and 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ders must transport their goods another 200 miles to reach the nearest part of inland Rus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rt C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ssia has two important ports called Kaliningrad and St. Petersbur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liningrad is located on a small island in the Baltic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’s the only port that stays ice-free the whole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summer they have the choice of keeping their goods on the ships to travel 500 miles to St. Petersbur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-380880" y="0"/>
            <a:ext cx="104392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ilro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road travel is the main transportation of Rus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95 Russia had 154,000km of railroads but 26% of them were elect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road traffic dropped since the beginning of the Russian economic reform, making the economy b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5Z</dcterms:created>
  <dc:creator>Student</dc:creator>
  <dc:description/>
  <dc:language>en-US</dc:language>
  <cp:lastModifiedBy> </cp:lastModifiedBy>
  <dcterms:modified xsi:type="dcterms:W3CDTF">2010-12-20T15:05:01Z</dcterms:modified>
  <cp:revision>4</cp:revision>
  <dc:subject/>
  <dc:title>Movement</dc:title>
</cp:coreProperties>
</file>